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8FC-985C-4353-9DB7-BB92EB39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C79-489A-48B7-A3F6-5BD2AA7F3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3CF-829B-4B28-80B3-87E24DCD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A95-49B5-48BB-83FD-2C0D520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768-1C76-493B-A642-1ABD4C53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A8F-C605-418C-8BAE-64E77CF8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737-105A-4EA0-B8B1-35B9006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895-C5B4-4C6A-A0AD-AA29A88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FB7-F038-4DCE-A2D7-FE77F66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9A2-7704-459A-8497-DB70F8A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798-04B0-4A00-894A-6291701C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7FD-FAD9-4512-8F8F-61071FA5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C4B-89EE-4B7A-931C-A2ED195B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605-A28F-4451-BDC7-0048773E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BDEE-8A74-43DC-AAE3-54DE83AB3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stocke</cp:lastModifiedBy>
  <dcterms:modified xsi:type="dcterms:W3CDTF">2011-10-10T02:52:29Z</dcterms:modified>
  <cp:revision>118</cp:revision>
  <dc:subject/>
  <dc:title>Museum of World Stuff</dc:title>
</cp:coreProperties>
</file>